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362D-067D-458D-B9F8-8D8B197B4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E5C7-6E79-4457-BCC6-21965EEF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E8C2-1C58-4F75-B003-4B4943A42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A793-27D7-480A-A884-8C90FB7E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AD09-248B-486E-8BCE-1BA07353C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5951-3FB4-4372-81EB-BAEC9D8A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BECC-2ECA-4C81-BEC6-C3A850EC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4C8F-31D0-43E1-88E8-EA776D76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9FF2-C212-47BF-B400-5D2ABD50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1487-4F0B-499B-B30A-6A362EFD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3801-5367-4865-828E-F257A15D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788F-51A0-4AB6-8E85-FA3B0865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0BDA-40D7-4E56-8560-7790956A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809B-1A8A-49AD-80A3-4C0F2884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4175-F2EF-4C17-BB32-F75BA342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B15C-9981-4974-82BC-381D28208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0253-9DA5-44F6-8243-3DD35BF0F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2D0E-EED9-473C-AECE-D7A499DB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18E2-60C5-4B41-971F-8C133DDB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9814-EC29-400C-8341-82DAF2A6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60D2-0F9F-4F2E-80E6-5482271F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4D89-9F3B-407C-942B-5F19A8B8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0B25-1D8C-429C-9395-21AA2F02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7243-B59B-4865-B6BD-0AF7B1E3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C26A-6E8A-4834-9FE8-A40FD18C945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767F-F3DE-47DD-A7D7-6A8689A4BEF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ORMATION OF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Practice </a:t>
            </a:r>
            <a:fld id="{AC6A9556-FCA2-4583-AA8E-5ABAE3F233E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214200" y="1285920"/>
            <a:ext cx="400068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ἁγιο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ον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νεκρ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υφλ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στα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ικαι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ιδι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νηρο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3143160" y="21258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sc. Nom.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3143160" y="261612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sc./Fem./Neut. Gen.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3143160" y="3100320"/>
            <a:ext cx="64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sc. Acc. Sing.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ut. Masc./Acc.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3143160" y="361476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m. Nom.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3143160" y="41292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m. Dat.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3143160" y="465768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m. Acc.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3143160" y="5157720"/>
            <a:ext cx="62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m. Nom. Sing.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ut. Nom./Acc.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3143160" y="56610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sc. Dat.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500040" y="1459080"/>
            <a:ext cx="771516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ich part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εγα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would agree with the follow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ὀχλ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ργ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ασιλει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ρδιᾳ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ἱερ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"/>
          <p:cNvSpPr/>
          <p:nvPr/>
        </p:nvSpPr>
        <p:spPr>
          <a:xfrm>
            <a:off x="241200" y="25560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πολυ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μεγ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Practice </a:t>
            </a:r>
            <a:fld id="{15059729-C00D-4646-83C7-1C5318269B5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4"/>
          <p:cNvSpPr/>
          <p:nvPr/>
        </p:nvSpPr>
        <p:spPr>
          <a:xfrm>
            <a:off x="4357800" y="241308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εγ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"/>
          <p:cNvSpPr/>
          <p:nvPr/>
        </p:nvSpPr>
        <p:spPr>
          <a:xfrm>
            <a:off x="4357800" y="300348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εγαλ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4357800" y="361332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εγαλη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>
            <a:off x="4354560" y="4246560"/>
            <a:ext cx="435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εγαλ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4357800" y="486108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εγ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"/>
          <p:cNvSpPr/>
          <p:nvPr/>
        </p:nvSpPr>
        <p:spPr>
          <a:xfrm>
            <a:off x="142920" y="1428840"/>
            <a:ext cx="6072120" cy="56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στιν θεος ἐν ουρανῳ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ημειον το του Ἀβρααμ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εκν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σιν πολλοι ἁγιοι Ἰουδαιο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του Ἰησου λογος εὐαγγελι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"/>
          <p:cNvSpPr/>
          <p:nvPr/>
        </p:nvSpPr>
        <p:spPr>
          <a:xfrm>
            <a:off x="230040" y="71280"/>
            <a:ext cx="8628120" cy="10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.7 WORD ORDER AN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.8 SPECIAL USES OF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εἰμ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Practice </a:t>
            </a:r>
            <a:fld id="{655570CC-6F4B-4DCB-9C46-25109AA47F2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4"/>
          <p:cNvSpPr/>
          <p:nvPr/>
        </p:nvSpPr>
        <p:spPr>
          <a:xfrm>
            <a:off x="4660920" y="233028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God in heav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5"/>
          <p:cNvSpPr/>
          <p:nvPr/>
        </p:nvSpPr>
        <p:spPr>
          <a:xfrm>
            <a:off x="4660920" y="294156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braham’s child is a 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4700520" y="478620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are many holy J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4700520" y="5410080"/>
            <a:ext cx="43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word of Jesus is good n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-14292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USE OF ADJECTIVES (1) - ATTRIBU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Practice </a:t>
            </a:r>
            <a:fld id="{4A20D879-2A88-4AF6-9DE4-C2320453542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214200" y="1285920"/>
            <a:ext cx="607248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ηρουμεν τον ἀγαθον νομ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ἀδελφος ὁ ἀγιος ἀκου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υφλον δουλον ἐχ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ἁγιος λαος φιλει τον θε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κυριος οὐκ ἐχει δικαι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υἱ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4643280" y="218772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are keeping the good l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4643280" y="2820960"/>
            <a:ext cx="46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beloved brother is list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4643280" y="341136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has a blind sl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4643280" y="40305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holy people love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4643280" y="4654440"/>
            <a:ext cx="471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Lord does not have a just 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-14292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USE OF ADJECTIVES (1) - ATTRIBU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Practice </a:t>
            </a:r>
            <a:fld id="{4663A455-FC1D-4B31-ACCF-069F908F226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214200" y="1285920"/>
            <a:ext cx="6072480" cy="31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βαλλει τα δαιμονια τα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 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νηρ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λειτε τας ἀγαθος ἀδελφα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4643280" y="218772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are keeping the good l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4643280" y="3409920"/>
            <a:ext cx="46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beloved brother is list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214200" y="3956040"/>
            <a:ext cx="4929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seek a wicked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e believes her own he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crowd seeks the only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4643280" y="4044960"/>
            <a:ext cx="435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ζητω πονηραν ζωη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1"/>
          <p:cNvSpPr/>
          <p:nvPr/>
        </p:nvSpPr>
        <p:spPr>
          <a:xfrm>
            <a:off x="4643280" y="4603680"/>
            <a:ext cx="435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στευει τῃ ἰδιᾳ καρδιᾳ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4643280" y="5173560"/>
            <a:ext cx="43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οχλος ζητει τον μονον θε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500040" y="1500120"/>
            <a:ext cx="6072120" cy="44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σ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μ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στ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241200" y="25560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εἰμι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- I A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Practice </a:t>
            </a:r>
            <a:fld id="{8E13C1B1-8390-409D-95C7-A01D2AA4E7C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4214880" y="241308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pl.)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4214880" y="299088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4214880" y="360036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4211640" y="421812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sing.)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214880" y="486108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/she/it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-14292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USE OF ADJECTIVES (2) - PREDIC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6"/>
          <p:cNvSpPr/>
          <p:nvPr/>
        </p:nvSpPr>
        <p:spPr>
          <a:xfrm>
            <a:off x="6867360" y="629604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Practice </a:t>
            </a:r>
            <a:fld id="{149C27DA-E577-4402-8D95-4DADA30D351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71280" y="1157400"/>
            <a:ext cx="4786560" cy="40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στε ἀγαθο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ἁγιος ἐστιν ὁ νομος του θε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Ἰουδαια τα τεκν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 τυφλη ἀδελφη ἐστιν νεκρ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ἰωνια τα Ἱεροσολυμα τα ἁγι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the gospel good or evi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564080" y="158580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e you (pl.) go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4554360" y="210168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law of God is ho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4557600" y="259704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children are Jew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4557600" y="311616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the blind sister de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4557600" y="363996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holy Jerusalem etern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4557600" y="4143240"/>
            <a:ext cx="43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γαθον ἠ πονηρον (ἐστιν) το εὐαγγελι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0"/>
          <p:cNvSpPr/>
          <p:nvPr/>
        </p:nvSpPr>
        <p:spPr>
          <a:xfrm>
            <a:off x="4572000" y="5000760"/>
            <a:ext cx="43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θεος ὁ μονος (ἐστιν) ἐν οὐρανῳ (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ὐρανοις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142920" y="4927680"/>
            <a:ext cx="45720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only God is in hea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159840" y="5715000"/>
            <a:ext cx="36540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are in the synagog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3"/>
          <p:cNvSpPr/>
          <p:nvPr/>
        </p:nvSpPr>
        <p:spPr>
          <a:xfrm>
            <a:off x="4572000" y="5805360"/>
            <a:ext cx="435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σμεν ἐν τῃ συναγωγη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87480" y="255600"/>
            <a:ext cx="86277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Practice </a:t>
            </a:r>
            <a:fld id="{1A167E7A-9D7E-4A8B-9799-3B7074401E6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22860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71280" y="1285920"/>
            <a:ext cx="471492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Πετρος φιλει το νεκρον τεκν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υἱος ὁ τυφπλος βλεπει τον Χριστ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ἁγιον καλουσιν τον κυρι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αλλει αὐτο εἰς την καλην γη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ἑτερῳ εὐαγγελιῳ οὐ πιστευομ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4786200" y="2085840"/>
            <a:ext cx="3857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Peter loves the dead chil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4786200" y="2639880"/>
            <a:ext cx="4357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The blind son leads the Messiah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794120" y="3714840"/>
            <a:ext cx="3857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They call the lord hol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4782960" y="4299120"/>
            <a:ext cx="4357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He throws it into the good earth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4782960" y="4834080"/>
            <a:ext cx="4357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We do not believe (in) a different gospe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4759200" y="5643720"/>
            <a:ext cx="3857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The slave of God is bless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90000" y="546084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δουλος του θεου μακαρι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2"/>
          <p:cNvSpPr/>
          <p:nvPr/>
        </p:nvSpPr>
        <p:spPr>
          <a:xfrm>
            <a:off x="87480" y="255600"/>
            <a:ext cx="86277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Practice </a:t>
            </a:r>
            <a:fld id="{AD1EEFC6-AA0A-45BC-8BBD-F9132CBFB48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22860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71280" y="1285920"/>
            <a:ext cx="471492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ἁγια ἡ βασιλεια του Ἰησου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ἀγαθος ἀδελφος οὐκ ἐστι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 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ον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A wicked crowd seeks signs</a:t>
            </a:r>
            <a:r>
              <a:rPr b="0" lang="el-GR" sz="21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Is God dead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We are departing to our own hous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4670280" y="2085840"/>
            <a:ext cx="3857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Is the kingdom of Jesus holy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7"/>
          <p:cNvSpPr/>
          <p:nvPr/>
        </p:nvSpPr>
        <p:spPr>
          <a:xfrm>
            <a:off x="4670280" y="2639880"/>
            <a:ext cx="4357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The good brother is not alon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4678200" y="364320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νηρος ὀχλος ζητει σημεια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9"/>
          <p:cNvSpPr/>
          <p:nvPr/>
        </p:nvSpPr>
        <p:spPr>
          <a:xfrm>
            <a:off x="4667400" y="415764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θεος (ἐστιν) νεκρος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0"/>
          <p:cNvSpPr/>
          <p:nvPr/>
        </p:nvSpPr>
        <p:spPr>
          <a:xfrm>
            <a:off x="4667400" y="4643280"/>
            <a:ext cx="45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ὑπαγομεν εἰς (</a:t>
            </a:r>
            <a:r>
              <a:rPr b="0" i="1" lang="en-GB" sz="21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ρος)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υς ἰδιους οἰκους (</a:t>
            </a:r>
            <a:r>
              <a:rPr b="0" i="1" lang="en-GB" sz="21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ας ἰδιας οἰκιας)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1"/>
          <p:cNvSpPr/>
          <p:nvPr/>
        </p:nvSpPr>
        <p:spPr>
          <a:xfrm>
            <a:off x="4687920" y="561492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ἡ ἀδελφη ἡ Ἰουδαια (ἐστιν) ἀγαθ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85680" y="5460840"/>
            <a:ext cx="360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The Jewish sister is so good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"/>
          <p:cNvSpPr/>
          <p:nvPr/>
        </p:nvSpPr>
        <p:spPr>
          <a:xfrm>
            <a:off x="244440" y="1514520"/>
            <a:ext cx="6072120" cy="44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θεος φιλει τους Ἰουδαι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ἀγαθοι διδασκουσ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Παυλος λεγει τοις ἁγιοι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τυφλος ὑπαγ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7128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USE OF ADJECTIVES (3) – AS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Practice </a:t>
            </a:r>
            <a:fld id="{45B1226F-DA90-4533-9257-804F5DD957E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4572000" y="241308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pl.)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4572000" y="302580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good people/men t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4572000" y="362736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ul speaks to the holy 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4568760" y="424656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blind man depa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"/>
          <p:cNvSpPr/>
          <p:nvPr/>
        </p:nvSpPr>
        <p:spPr>
          <a:xfrm>
            <a:off x="500040" y="1459080"/>
            <a:ext cx="771516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ich part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λυ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would agree with the follow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ἁμαρτι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ημει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ιβλι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οξ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αββατο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"/>
          <p:cNvSpPr/>
          <p:nvPr/>
        </p:nvSpPr>
        <p:spPr>
          <a:xfrm>
            <a:off x="241200" y="25560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πολυ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μεγ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Practice </a:t>
            </a:r>
            <a:fld id="{A0FB3DFA-EF0D-4BE9-9BCE-D0E36BB098D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4357800" y="241308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λλ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4357800" y="300348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λλ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4357800" y="361332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λλ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4354560" y="4246560"/>
            <a:ext cx="435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λλη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8"/>
          <p:cNvSpPr/>
          <p:nvPr/>
        </p:nvSpPr>
        <p:spPr>
          <a:xfrm>
            <a:off x="4357800" y="486108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λλο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8:17:46Z</dcterms:created>
  <dc:creator>Sarah</dc:creator>
  <dc:description/>
  <dc:language>en-US</dc:language>
  <cp:lastModifiedBy>Sarah</cp:lastModifiedBy>
  <dcterms:modified xsi:type="dcterms:W3CDTF">2008-09-07T14:34:27Z</dcterms:modified>
  <cp:revision>37</cp:revision>
  <dc:subject/>
  <dc:title>Slide 1</dc:title>
</cp:coreProperties>
</file>